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6B2-8B41-48CA-A0FD-4971C894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CF8-CC6A-4A5F-992A-F77CE85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6D8-93DC-46EC-A7EA-D315659E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B2E-ECDC-48D4-B06F-B76EC022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9B1-B14A-4B58-BE14-DCE956FD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2591-FCF1-49D9-988C-25196AC8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8633-92B6-4514-B71F-05859238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36E3-A64C-461B-9458-DCFE76F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004E-793D-493D-A783-0DE9D68C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71D4-6597-48B9-8328-88DD0188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EB03-AD79-4760-9726-42C7F543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378-24A1-4064-B0FF-0FFCBE60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8242-A3E3-4AFF-8C1A-B0D9849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5B25-C771-4500-8862-10F6498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2EC5-52D1-45AF-9A56-DC88D40E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32BF-2E43-4B73-A610-31065652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C5A-BBBD-419E-97DF-1D46DE8C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6E0-3308-49D4-8A41-9E92B2A4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0F8-F751-4A7C-97EB-5B09DEA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67A2-5470-4F60-A0E2-DBC88B5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58C-1507-4AA8-9F5D-13D6DD86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E55-76F5-4B20-B837-DDE8D8A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A12-FAF1-43AF-BC9F-FDAB1182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A31-4137-4811-9579-CDBA80F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F7A-24CF-437D-B54D-C1250AB2E2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06C1-497A-481C-AC21-76B795D7668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indyalleycats.com/wp-content/uploads/2009/11/basketball_2.jpg&amp;imgrefurl=http://www.indyalleycats.com/&amp;usg=__tVFu7r731cecLrKExJgDNvi7BqQ=&amp;h=768&amp;w=1024&amp;sz=111&amp;hl=en&amp;start=31&amp;itbs=1&amp;tbnid=JTWP0F9XwD00jM:&amp;tbnh=113&amp;tbnw=150&amp;prev=/images%3Fq%3Dbasketball%26start%3D20%26hl%3Den%26sa%3DN%26gbv%3D2%26ndsp%3D20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bealonghorn.utexas.edu/whyut/photos/images/gibson_daniel.jpg&amp;imgrefurl=http://bealonghorn.utexas.edu/whyut/photos/ss2.php%3Fg%3D1%26s%3D19&amp;usg=__ptg9oWsxSbdtsf6WaCHdRze4kHM=&amp;h=371&amp;w=475&amp;sz=46&amp;hl=en&amp;start=43&amp;itbs=1&amp;tbnid=xw0D_X0GHT6lyM:&amp;tbnh=101&amp;tbnw=129&amp;prev=/images%3Fq%3Dbasketball%26start%3D40%26hl%3Den%26sa%3DN%26gbv%3D2%26ndsp%3D20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ructures &amp; Strategies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Miss Dooga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0920" cy="2421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37000"/>
            <a:ext cx="2484360" cy="2421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093080" y="1916280"/>
            <a:ext cx="20509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Zone Streng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tiring (than man-to-ma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yers commit fewer fou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 Zone Weaknes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ulnerable to good outside sho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st break can beat zone down court leading to disorganisation and conf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nents have relatively free build up as pressure not applies until ball close to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defensive skills are not developed when a team rely on the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Zone Def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6265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u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HESE ARE GENERALLY THE SMALLER / FASTER PLAY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RESPONSIBLE FOR BRINGING THE BALL UP THE COURT (GOOD BALL HANDLERS AND DECISION-MAK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HEY PRESSURE THE SHO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THEY ALSO STOP PENETRATION  OF THE K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en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LL, STRONG PLAY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OOD AT SHOOTING FROM CLOSE THE BAS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OOD AT COLLECTING REBOUNDS AND BLOCKING SHO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orw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TRONG POWERFULL PLAY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GOOD AT DRIVING TO THE BASKET AND LONG RANGE SHO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ELP TO BLOCK OUT AND WIN REBOU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now that Zone Defence is a defensive STRUC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how to answer a description of the Zone Def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 (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an activity of your choice describe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detai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 structure, strategy or composition you have used.  (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answer Part (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structure:  2-1-2 Zone Def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formation – where the players stand in the 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each player/position’s role and responsi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stages of the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the strengths and weaknesses of the z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Zone Defence 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0720" y="2619360"/>
            <a:ext cx="4000320" cy="2857680"/>
            <a:chOff x="2520720" y="2619360"/>
            <a:chExt cx="4000320" cy="2857680"/>
          </a:xfrm>
        </p:grpSpPr>
        <p:sp>
          <p:nvSpPr>
            <p:cNvPr id="109" name=""/>
            <p:cNvSpPr/>
            <p:nvPr/>
          </p:nvSpPr>
          <p:spPr>
            <a:xfrm>
              <a:off x="2520720" y="2619360"/>
              <a:ext cx="4000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2320" y="2847960"/>
              <a:ext cx="1143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64000" y="2847960"/>
              <a:ext cx="3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9160" y="3076560"/>
              <a:ext cx="2293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64160" y="2619360"/>
              <a:ext cx="22824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64160" y="3876840"/>
              <a:ext cx="378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6520" y="4219560"/>
              <a:ext cx="343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21000" y="513432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78200" y="5362920"/>
              <a:ext cx="1599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8400" y="5134320"/>
              <a:ext cx="4568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63480" y="2619360"/>
              <a:ext cx="22860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35600" y="387684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F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606640" y="4219560"/>
              <a:ext cx="3430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9160" y="4334040"/>
              <a:ext cx="45756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807080" y="3990960"/>
              <a:ext cx="1028160" cy="571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6520" y="3990960"/>
              <a:ext cx="1142640" cy="5713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6520" y="3990960"/>
              <a:ext cx="26287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s and Responsibil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u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ut pressure on the forwards of the opposing team when they are pa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nt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orw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m a rebound triangle around basket. All three players have to be aggressive and good at jumping and blocking out attacking players from collecting the rebounds from shots to the bas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s of 2-1-2 Zone Def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n your team loses possession shout zone and sprint back up court and take posi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defenders nearest the attacker in possession of the ball pressures the ball when attacker is in shooting rang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ak side players sag across to maintain the structure of the zone and covering vulnerable are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ock out.  When a shot is attempted, the defenders must block out and reboun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airs 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 have 10 minutes to investigate the strengths and weaknesses of a Zone def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-1-2 Zone Streng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vents penetration of the key by always having someone in the space preventing a clear drive to the bas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effective against cutting and screening as players mark areas not m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ts down the space inside the key and forces long range sho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7:30:35Z</dcterms:created>
  <dc:creator>DooganS</dc:creator>
  <dc:description/>
  <dc:language>en-US</dc:language>
  <cp:lastModifiedBy>DooganS</cp:lastModifiedBy>
  <dcterms:modified xsi:type="dcterms:W3CDTF">2010-03-16T08:15:04Z</dcterms:modified>
  <cp:revision>7</cp:revision>
  <dc:subject/>
  <dc:title>Structures &amp; Strategies Lesson 1</dc:title>
</cp:coreProperties>
</file>